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88620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318960"/>
            <a:ext cx="0" cy="6234120"/>
          </a:xfrm>
          <a:prstGeom prst="line">
            <a:avLst/>
          </a:prstGeom>
          <a:ln w="507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95280" y="76320"/>
            <a:ext cx="7682040" cy="0"/>
          </a:xfrm>
          <a:prstGeom prst="line">
            <a:avLst/>
          </a:prstGeom>
          <a:ln w="507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8229600" y="0"/>
            <a:ext cx="979560" cy="119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"/>
          <p:cNvSpPr/>
          <p:nvPr/>
        </p:nvSpPr>
        <p:spPr>
          <a:xfrm>
            <a:off x="7950960" y="6303960"/>
            <a:ext cx="1677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722E3-4E51-4265-B919-7A871A1B10B9}" type="slidenum"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172200" y="649116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CD2A10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05280" y="0"/>
            <a:ext cx="9525240" cy="22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anage Wartime Strength Reporting/Accounting System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6235560" cy="420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erminal Learning Objective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2057400"/>
            <a:ext cx="7594560" cy="17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0" indent="-2286000">
              <a:lnSpc>
                <a:spcPct val="100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Action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Manage Wartime Strength Reporting/Accounting Syste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286000" indent="-2286000">
              <a:lnSpc>
                <a:spcPct val="100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erminal Learning Objective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1644480"/>
            <a:ext cx="7594560" cy="26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286000" indent="-2286000">
              <a:lnSpc>
                <a:spcPct val="100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Conditions: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Given a requirement to manage the wartime strength reporting/accounting system and access to AR 600-8-6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erminal Learning Objective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93880" y="2128680"/>
            <a:ext cx="756900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743200" indent="-2743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Standards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: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1. Ensured that the Wartime Personnel Accounting Strength Reporting (PASR) System is properly managed at the Battalion (BN) leve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0" indent="-2743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erminal Learning Objective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57080" y="1976400"/>
            <a:ext cx="825516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743200" indent="-2743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Standards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: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2. Ensured that the Wartime (PASR) System is properly managed at the Brigade (Bde) leve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0" indent="-2743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0" indent="-2743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0" indent="-2743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erminal Learning Objective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57080" y="1976400"/>
            <a:ext cx="8255160" cy="26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743200" indent="-2743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Standards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: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3. Ensured that the Wartime (PASR) System is properly managed at the Personnel Support Battalion (PSB) leve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0" indent="-2743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0" indent="-2743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erminal Learning Objective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57080" y="1973160"/>
            <a:ext cx="8255160" cy="22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343240" indent="-2343240">
              <a:lnSpc>
                <a:spcPct val="100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Standards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4. Managed the Wartime PASR System at the Division leve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43240" indent="-2343240">
              <a:lnSpc>
                <a:spcPct val="100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43240" indent="-2343240">
              <a:lnSpc>
                <a:spcPct val="100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343240" indent="-2343240">
              <a:lnSpc>
                <a:spcPct val="100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erminal Learning Objective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57080" y="1973160"/>
            <a:ext cx="8255160" cy="22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743200" indent="-2743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entury Gothic"/>
              </a:rPr>
              <a:t>Standards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5. Managed the Wartime PASR System at the Corps leve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0" indent="-2743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43200" indent="-2743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ASR Information Flow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82840" y="1392120"/>
            <a:ext cx="6289560" cy="5085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0T20:01:02Z</dcterms:created>
  <dc:creator>ADG</dc:creator>
  <dc:description/>
  <dc:language>en-US</dc:language>
  <cp:lastModifiedBy>Administrator</cp:lastModifiedBy>
  <cp:lastPrinted>2000-01-19T22:46:15Z</cp:lastPrinted>
  <dcterms:modified xsi:type="dcterms:W3CDTF">2005-07-08T18:55:27Z</dcterms:modified>
  <cp:revision>10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S:\TD\Tdd\ANCOC\75H CTDF\ANNEX D\CCD5H104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